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E016-A1E2-4551-9B0C-E30276937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BE4C-B3C2-49E3-A9D2-60287B13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E96E-BC13-4636-BA59-351187341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8E89-5AA7-409F-A1F9-08AB774ED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5417-4712-4726-BC0F-206DE12A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8D21-FFBA-4591-AEE2-0FD82F74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54BB-3916-4467-9B8E-B9AF610A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6ACE-EF7C-4B9B-8D30-24ABD3FE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208A-2B39-4EB9-BD3C-9798AC9B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144F-2276-4919-B235-EA609F57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AE38-162B-41CC-A990-BE066A71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D763-1BB9-4C57-8E65-8CA93483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5882-FF10-443D-B24C-C8A48AA20F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9"/>
          <p:cNvCxnSpPr>
            <a:stCxn id="44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TextBox 16"/>
          <p:cNvSpPr/>
          <p:nvPr/>
        </p:nvSpPr>
        <p:spPr>
          <a:xfrm>
            <a:off x="7304040" y="30481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ow/Hid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7"/>
          <p:cNvCxnSpPr>
            <a:stCxn id="46" idx="1"/>
          </p:cNvCxnSpPr>
          <p:nvPr/>
        </p:nvCxnSpPr>
        <p:spPr>
          <a:xfrm flipH="1" flipV="1">
            <a:off x="6323760" y="3201120"/>
            <a:ext cx="980640" cy="7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572000" y="5667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2"/>
          <p:cNvCxnSpPr>
            <a:stCxn id="52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35"/>
          <p:cNvCxnSpPr>
            <a:stCxn id="53" idx="0"/>
          </p:cNvCxnSpPr>
          <p:nvPr/>
        </p:nvCxnSpPr>
        <p:spPr>
          <a:xfrm flipH="1" flipV="1">
            <a:off x="50112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3-03T17:38:21Z</dcterms:modified>
  <cp:revision>5</cp:revision>
  <dc:subject/>
  <dc:title>PowerPoint Presentation</dc:title>
</cp:coreProperties>
</file>